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33D5-0480-4460-ABBB-294CF33A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D825-828D-4429-A725-409A13E5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33D1-5E87-46AC-999B-DEBB6F24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9CC2-4F6D-4848-9E18-80A15648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F026-6AE6-4840-B96A-46374D87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F59C-1E29-4C5A-A121-A763A6D3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E5F5-E39C-4799-9155-B29B7BA9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33C3-325B-483B-A172-D9B25779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3366-B681-48C9-A70B-A2351FEC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4C14-F23D-411E-B0FC-E204C5DA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3BFC-5CCD-4D74-9FAB-AEFCD2E2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DFB7-028D-4F88-884F-1BA5A642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F93D-CC80-4538-B622-27DCA685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D075-B62A-4349-BB07-EA91DC2E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2229-7D20-4B73-B851-EF5BC705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E8FF-E472-4C16-A1F0-17B3291B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D00C-5729-4FBA-B52A-A9B31300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D15A-8484-4998-AA8E-32402A85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0F44-F382-4543-882F-FF41A0C7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F3B1-B798-4C7D-A97C-84A46964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AE6F-C02A-494A-865B-7870119F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6D39-1C27-4BD6-8000-C08CED57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5AE2-0609-4517-AB01-B5F0763A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33DE-2FEE-4637-B7C8-136E092C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214C-33ED-4E01-BE28-C0613B2B9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4EE8-1673-42CC-A463-2F8B1EDF53AE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and Respon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Background Knowledge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ry repeats itself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30’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Vocabulary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rge busi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- to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green’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rugs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y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lothing 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electr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Motors - ca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Vocabulary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rge busi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- 19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Moto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nation Milk Co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i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 Match Co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Shoe Co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h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Grain Corpo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r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Vocabulary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buy property, shares in a corporation, or produ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you hope their value will go 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you can make a profit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Vocabulary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v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ves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ves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Vocabulary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o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res of owner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 comp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Vocabulary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ck ex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organized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buying and se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ock (shares in corporatio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Preview of Article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2971800"/>
            <a:ext cx="424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2520" y="1987560"/>
            <a:ext cx="6590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phic Organiz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uses of Great Dep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 and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vernment responses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eat Depress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Vocabulary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ressed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Vocabulary/background knowledge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re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 long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hen the economy is b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ny people do not have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Background Knowledge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11400" y="20178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Vocabulary/background knowledge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41600" y="2017800"/>
            <a:ext cx="3254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Vocabulary/background knowledge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309760" y="2017800"/>
            <a:ext cx="5518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Background Knowledge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36840" y="2017800"/>
            <a:ext cx="5264280" cy="4114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293400" y="6512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22000" y="1978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Background knowledge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6160" y="2017800"/>
            <a:ext cx="516564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242280" y="653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Background Knowledge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51240" y="2017800"/>
            <a:ext cx="523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2:02:03Z</dcterms:created>
  <dc:creator>Archer Anita</dc:creator>
  <dc:description/>
  <dc:language>en-US</dc:language>
  <cp:lastModifiedBy>Archer Anita</cp:lastModifiedBy>
  <dcterms:modified xsi:type="dcterms:W3CDTF">2009-01-12T03:31:10Z</dcterms:modified>
  <cp:revision>2</cp:revision>
  <dc:subject/>
  <dc:title>The Great Depression </dc:title>
</cp:coreProperties>
</file>